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995-0237-4D44-8EED-C2BF9227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D7B-5B27-4C75-B3F9-1752B17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D25-8CEA-461C-8B38-73D5271B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459-F638-4B3C-8F30-C6811B45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B8E-6AAE-48C0-A690-C9CB980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DA8-B7A5-45F2-BA9B-35FE7EC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E13-2ABD-4689-8B05-E725C0F2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0FA-5C0E-42AA-B942-B05DAB7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21C-C816-4A4D-A808-0CB0D59D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843-9283-410C-BFDA-AA807A0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029-474F-4AF6-8B56-4FE7D995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DCF-2D36-43D1-B3F2-3033AB82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F8E-CDF5-4BB6-9BC1-137369374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«Олимпийские игры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      в древности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картинки\olimpioniki.jpg"/>
          <p:cNvPicPr/>
          <p:nvPr/>
        </p:nvPicPr>
        <p:blipFill>
          <a:blip r:embed="rId2"/>
          <a:stretch/>
        </p:blipFill>
        <p:spPr>
          <a:xfrm>
            <a:off x="1258920" y="2492280"/>
            <a:ext cx="6553080" cy="316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6912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ЕРВЫЙ ДЕНЬ</a:t>
            </a: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риносили жертвы бог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ЛЯТВА УЧАСТНИКОВ И СУ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Греческая музыка - Сертаки.mp3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61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ВТОРОЙ ДЕНЬ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РЕВНОВАНИЯ В ГРУППЕ МАЛЬЧИКОВ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БЕГ, БОРЬБА, КУЛАЧНЫЙ БОЙ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1187280" y="1268280"/>
            <a:ext cx="66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ТРЕТИЙ Д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СТЯЗАНИЯ ВЗРОСЛЫХ АТЛЕТОВ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ПЯТИБОР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УЛАЧНЫЙ  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\Рабочий стол\картинки\олимп.jpg"/>
          <p:cNvPicPr/>
          <p:nvPr/>
        </p:nvPicPr>
        <p:blipFill>
          <a:blip r:embed="rId2"/>
          <a:stretch/>
        </p:blipFill>
        <p:spPr>
          <a:xfrm>
            <a:off x="1258920" y="1268280"/>
            <a:ext cx="6697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Рабочий стол\картинки\о.jpg"/>
          <p:cNvPicPr/>
          <p:nvPr/>
        </p:nvPicPr>
        <p:blipFill>
          <a:blip r:embed="rId2"/>
          <a:stretch/>
        </p:blipFill>
        <p:spPr>
          <a:xfrm>
            <a:off x="1187280" y="1052640"/>
            <a:ext cx="67564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\Рабочий стол\картинки\олим.jpg"/>
          <p:cNvPicPr/>
          <p:nvPr/>
        </p:nvPicPr>
        <p:blipFill>
          <a:blip r:embed="rId2"/>
          <a:stretch/>
        </p:blipFill>
        <p:spPr>
          <a:xfrm>
            <a:off x="1332000" y="1052640"/>
            <a:ext cx="661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\Рабочий стол\картинки\оли.jpg"/>
          <p:cNvPicPr/>
          <p:nvPr/>
        </p:nvPicPr>
        <p:blipFill>
          <a:blip r:embed="rId2"/>
          <a:stretch/>
        </p:blipFill>
        <p:spPr>
          <a:xfrm>
            <a:off x="1258920" y="981000"/>
            <a:ext cx="66261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ADMIN\Рабочий стол\картинки\ол.jpg"/>
          <p:cNvPicPr/>
          <p:nvPr/>
        </p:nvPicPr>
        <p:blipFill>
          <a:blip r:embed="rId2"/>
          <a:stretch/>
        </p:blipFill>
        <p:spPr>
          <a:xfrm>
            <a:off x="1258920" y="1052640"/>
            <a:ext cx="6626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картинки\олимпи.jpg"/>
          <p:cNvPicPr/>
          <p:nvPr/>
        </p:nvPicPr>
        <p:blipFill>
          <a:blip r:embed="rId2"/>
          <a:stretch/>
        </p:blipFill>
        <p:spPr>
          <a:xfrm>
            <a:off x="1401840" y="1185840"/>
            <a:ext cx="6340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Олимпийские игры, гонки на колесницах (иллюстрация National Geographic Society / Corbis)"/>
          <p:cNvPicPr/>
          <p:nvPr/>
        </p:nvPicPr>
        <p:blipFill>
          <a:blip r:embed="rId2"/>
          <a:stretch/>
        </p:blipFill>
        <p:spPr>
          <a:xfrm>
            <a:off x="900000" y="2565360"/>
            <a:ext cx="7201080" cy="3672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655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ЧЕТВЕР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ОНКИ КОЛЕС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C:\Documents and Settings\ADMIN\Рабочий стол\картинки\i (2).jpg"/>
          <p:cNvPicPr/>
          <p:nvPr/>
        </p:nvPicPr>
        <p:blipFill>
          <a:blip r:embed="rId2"/>
          <a:stretch/>
        </p:blipFill>
        <p:spPr>
          <a:xfrm>
            <a:off x="1042920" y="1182600"/>
            <a:ext cx="3673440" cy="440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\Рабочий стол\картинки\i (3).jpg"/>
          <p:cNvPicPr/>
          <p:nvPr/>
        </p:nvPicPr>
        <p:blipFill>
          <a:blip r:embed="rId3"/>
          <a:stretch/>
        </p:blipFill>
        <p:spPr>
          <a:xfrm>
            <a:off x="4716360" y="1197000"/>
            <a:ext cx="3384720" cy="44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626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Я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НАГРАЖДЕНИЕ ПОБЕ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\Рабочий стол\картинки\олимпиад.jpg"/>
          <p:cNvPicPr/>
          <p:nvPr/>
        </p:nvPicPr>
        <p:blipFill>
          <a:blip r:embed="rId2"/>
          <a:stretch/>
        </p:blipFill>
        <p:spPr>
          <a:xfrm>
            <a:off x="1258920" y="2637000"/>
            <a:ext cx="6610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ЛЕГЕНДАРНЫЕ   АТЛЕТ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Милон Кротонский            Феаг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276200" y="2521080"/>
            <a:ext cx="2449800" cy="410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2470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Файл:барон Пьер де Coubertin.jpg"/>
          <p:cNvPicPr/>
          <p:nvPr/>
        </p:nvPicPr>
        <p:blipFill>
          <a:blip r:embed="rId2"/>
          <a:stretch/>
        </p:blipFill>
        <p:spPr>
          <a:xfrm>
            <a:off x="1403280" y="1413000"/>
            <a:ext cx="2990880" cy="38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129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ВОЗРОЖД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ОЛИМПИЙСКИХ ИГ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4356000" y="47214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istral"/>
              </a:rPr>
              <a:t>Пьер  де  Куберт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792000" y="895320"/>
            <a:ext cx="762012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1403280" y="1341360"/>
            <a:ext cx="640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istral"/>
              </a:rPr>
              <a:t>ДОМАШНЕЕ ЗАДАНИЕ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Параграф  33, переска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творческое задание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- придумайте рассказ об Олимпийских играх от имени участника или зрителя (п. 4 в учебнике,  на стр. 1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WordArt 2" descr=""/>
          <p:cNvPicPr/>
          <p:nvPr/>
        </p:nvPicPr>
        <p:blipFill>
          <a:blip r:embed="rId2"/>
          <a:stretch/>
        </p:blipFill>
        <p:spPr>
          <a:xfrm>
            <a:off x="-1103400" y="1401840"/>
            <a:ext cx="899172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спользованная литература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 ресурсы Интернет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1640" y="2276280"/>
            <a:ext cx="655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асланова О.В. Поурочные разработки по истории Древнего мира.5 класс. – М,: ВАКО, 2004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гасин А. А., Годер Г. И., Свенцицкая И. С. История Древнего мира: 5 кл. М., 1998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ллюстрированная мировая история: Греки. – М.: Росмэн. – 199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«ОЛИМПИЙСКИЕ ИГРЫ В ДРЕВ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ADMIN\Рабочий стол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403280" y="3573360"/>
            <a:ext cx="65534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b5d2660b7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4-конечная звезда 16"/>
          <p:cNvSpPr/>
          <p:nvPr/>
        </p:nvSpPr>
        <p:spPr>
          <a:xfrm>
            <a:off x="2428920" y="3786120"/>
            <a:ext cx="285840" cy="285840"/>
          </a:xfrm>
          <a:custGeom>
            <a:avLst/>
            <a:gdLst>
              <a:gd name="textAreaLeft" fmla="*/ 117720 w 285840"/>
              <a:gd name="textAreaRight" fmla="*/ 168120 w 28584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олния 17"/>
          <p:cNvSpPr/>
          <p:nvPr/>
        </p:nvSpPr>
        <p:spPr>
          <a:xfrm>
            <a:off x="2714760" y="1428840"/>
            <a:ext cx="500040" cy="4284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Рабочий стол\картинки\олимпиа.jpg"/>
          <p:cNvPicPr/>
          <p:nvPr/>
        </p:nvPicPr>
        <p:blipFill>
          <a:blip r:embed="rId2"/>
          <a:stretch/>
        </p:blipFill>
        <p:spPr>
          <a:xfrm>
            <a:off x="1332000" y="1052640"/>
            <a:ext cx="6480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480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«ВСЕ  В  ОЛИМПИЮ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stral"/>
              </a:rPr>
              <a:t>СВЯЩЕННЫЙ МИР ОБЪЯВЛЕН!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Mistral"/>
              </a:rPr>
              <a:t>ДОРОГИ БЕЗОПАСНЫ!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istral"/>
              </a:rPr>
              <a:t>ДА ПОБЕДЯТ СИЛЬНЕЙШИЕ!</a:t>
            </a: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»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6626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ПЕРВЫЕ 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ЛИМПИЙСКИЕ ИГРЫ БЫЛИ ПРОВЕДЕН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в  </a:t>
            </a: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776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году до нашей э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\Рабочий стол\картинки\i (4).jpg"/>
          <p:cNvPicPr/>
          <p:nvPr/>
        </p:nvPicPr>
        <p:blipFill>
          <a:blip r:embed="rId2"/>
          <a:stretch/>
        </p:blipFill>
        <p:spPr>
          <a:xfrm>
            <a:off x="1258920" y="3716280"/>
            <a:ext cx="66261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картинки\space-with-geometric-decor-07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G: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29600" cy="4286160"/>
          </a:xfrm>
          <a:prstGeom prst="rect">
            <a:avLst/>
          </a:prstGeom>
          <a:ln w="0">
            <a:noFill/>
          </a:ln>
        </p:spPr>
      </p:pic>
      <p:pic>
        <p:nvPicPr>
          <p:cNvPr id="57" name="Наташа Королева - Олимпиада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4"/>
          <a:stretch/>
        </p:blipFill>
        <p:spPr>
          <a:xfrm>
            <a:off x="1494000" y="281160"/>
            <a:ext cx="6259320" cy="93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2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3:21:32Z</dcterms:created>
  <dc:creator>Galina</dc:creator>
  <dc:description/>
  <dc:language>en-US</dc:language>
  <cp:lastModifiedBy>User</cp:lastModifiedBy>
  <dcterms:modified xsi:type="dcterms:W3CDTF">2019-02-06T09:01:28Z</dcterms:modified>
  <cp:revision>160</cp:revision>
  <dc:subject/>
  <dc:title>Урок «Олимпийские игры в древности»</dc:title>
</cp:coreProperties>
</file>